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9DD-D5D7-435C-9700-98DFAD44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574-0BC0-40BD-B951-872CA51B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BFA8-0626-4AA6-96FA-BE4B55A3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ADB-394D-4350-958E-F6BE5548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E21-8974-4988-80FE-DBD9A094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8BCC-A186-4F0D-A6EF-90550866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740-4948-441D-B60E-177A8F03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4C0-4162-4823-8BB3-751FA895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B39-625F-4D37-BD26-73C2924A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288-00D8-4AE3-9FAE-A14CD57B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6C9F-B7FE-47B3-B354-542A60A2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B26-21B5-4025-90E2-B0D4C2B8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60CA-21DD-45C3-9B9D-E12513FB4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2 Na tvoje diela, Bož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dív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ilosť tvoj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ľahnúť sa môž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rukou spás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golgotský je krí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miluješ m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brotivý Bož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veriť, že 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ny odpust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, Tvorca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 obeť chvály n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všemocný a dobrý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šetky da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údrosť tvojich cies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vždy ti vrúc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 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sti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dopriavaš, sa k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yn tvoj už prí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kráľov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, ako sľúb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skoro sa v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vtedy vít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ho piesňou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, Tvorca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 obeť chvály n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všemocný a dobrý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šetky da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údrosť tvojich cies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vždy ti vrúc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 vzd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voje die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e, keď sa dí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mocným slov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sne stvoren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primný obdi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dy nezakrý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ku ti vzdá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m nadše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, Tvorca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 obeť chvály n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všemocný a dobrý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šetky da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údrosť tvojich cies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vždy ti vrúc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 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vitnúcou lúk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vždy prechádzam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táčí spe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 k uchu zaliet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chvátiť vie 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ehká, nežná kr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torej je múdr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a ukry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, Tvorca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 obeť chvály n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všemocný a dobrý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šetky da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údrosť tvojich cies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vždy ti vrúc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 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8:39:02Z</dcterms:modified>
  <cp:revision>16</cp:revision>
  <dc:subject/>
  <dc:title>Je veľký náš Pán, on slávy je Kráľ Nech do všetkých strán  spev vrúcnych znie chvál.</dc:title>
</cp:coreProperties>
</file>